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3103-7FF0-4AF7-AA99-FF727CA3F6A3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4399-FED8-42CB-9332-B58229EBBF10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39C3-EAC3-4822-B283-1943D2A0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14F-36CB-4D01-97C6-43F4F205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8B64-8207-4DF3-AB77-D83D1CA5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1DE-4D49-4758-BC4C-A342AAC1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206-F17A-4428-863E-17452EB4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A28-8981-4C45-8EA9-018BDCFD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8593-7711-4245-AABA-B0BF4155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8545-9F9B-4197-9F08-938A4E92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1339560"/>
            <a:ext cx="82296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D5F-9F74-497A-ACE0-E6384B7F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BDE-44F3-4365-BD4A-09698BEF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407-9943-4E09-A20E-50B4CD1D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CF0E-2683-4DD6-9B8E-8BEC7322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6"/>
          <p:cNvPicPr/>
          <p:nvPr/>
        </p:nvPicPr>
        <p:blipFill>
          <a:blip r:embed="rId2"/>
          <a:srcRect l="0" t="0" r="0" b="-295"/>
          <a:stretch/>
        </p:blipFill>
        <p:spPr>
          <a:xfrm>
            <a:off x="0" y="-6840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1DBE-B149-42C9-82CA-1DAE518006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F:\美工素材\校徽标志\校徽组成图.png"/>
          <p:cNvPicPr/>
          <p:nvPr/>
        </p:nvPicPr>
        <p:blipFill>
          <a:blip r:embed="rId1"/>
          <a:stretch/>
        </p:blipFill>
        <p:spPr>
          <a:xfrm>
            <a:off x="0" y="452916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1332000" y="2782800"/>
            <a:ext cx="753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课程名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参赛教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学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5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1895400"/>
          </a:xfrm>
          <a:prstGeom prst="rect">
            <a:avLst/>
          </a:prstGeom>
          <a:ln w="0">
            <a:noFill/>
          </a:ln>
        </p:spPr>
      </p:pic>
      <p:sp>
        <p:nvSpPr>
          <p:cNvPr id="52" name="矩形 6"/>
          <p:cNvSpPr/>
          <p:nvPr/>
        </p:nvSpPr>
        <p:spPr>
          <a:xfrm>
            <a:off x="9360" y="573264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2015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年    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08:58:37Z</dcterms:created>
  <dc:creator>sewjtu-gao</dc:creator>
  <dc:description/>
  <dc:language>en-US</dc:language>
  <cp:lastModifiedBy>admin</cp:lastModifiedBy>
  <cp:lastPrinted>1899-12-30T00:00:00Z</cp:lastPrinted>
  <dcterms:modified xsi:type="dcterms:W3CDTF">2015-06-09T06:16:00Z</dcterms:modified>
  <cp:revision>4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